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679C-D04E-4690-9F20-A1CDEF870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68FB-7133-4DEE-B79B-AC805BFAD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6967-B0A4-49DD-A747-43E1214E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1D01-C773-4D92-A40C-56FA0D03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C122-2599-45DE-94E4-BECC00CE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0135-939C-44DD-93FD-638CC0F5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66E-919D-4EDD-ADAD-FAD5F2BC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960D-05E4-4320-AE7A-B508152C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3B6-34FC-48AA-AEE6-92924C7D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8270-AA5A-4BAC-89AD-6B1C6522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C9AE-1641-4065-8CBF-093FAF1C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9A5B-12A5-43A6-9C34-87114FCD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FDA2-4069-4D0C-8BC1-AA762C18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1FB-5D5E-4FE2-BB4B-B08F1314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B94C-BE71-409D-A15A-C9A8C84DA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rna Abdelha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erna Abdelhalem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752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erna Abdelhale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erna Abdelhale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429000"/>
            <a:ext cx="182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nombre es Merna. Tengo 14 años. Estoy feliz y loca. Vivo en New york. Yo tengo tus hermanos. Amo mi amig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3029040" y="320040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qué es el deberes?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3657600" y="3124080"/>
            <a:ext cx="36576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bien.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9559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Cómo estás tú hoy?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36576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sotros tenemos matemáticas dede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3029040" y="51814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365760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racai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8:28:26Z</dcterms:modified>
  <cp:revision>108</cp:revision>
  <dc:subject/>
  <dc:title>Profile</dc:title>
</cp:coreProperties>
</file>